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C02E47F-AD56-46C2-9271-8E077B3EC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474920" y="762120"/>
            <a:ext cx="3946320" cy="2960640"/>
          </a:xfrm>
          <a:prstGeom prst="rect">
            <a:avLst/>
          </a:prstGeom>
          <a:ln w="0">
            <a:noFill/>
          </a:ln>
        </p:spPr>
      </p:sp>
      <p:sp>
        <p:nvSpPr>
          <p:cNvPr id="139" name="PlaceHolder 2"/>
          <p:cNvSpPr>
            <a:spLocks noGrp="1"/>
          </p:cNvSpPr>
          <p:nvPr>
            <p:ph type="body"/>
          </p:nvPr>
        </p:nvSpPr>
        <p:spPr>
          <a:xfrm>
            <a:off x="701280" y="3886200"/>
            <a:ext cx="5607000" cy="4713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al is the place for day-to-day entries. Any time money is received or spent an entry should be promptly made. Suppose you had a five-column journal with an extra heading for “f und.” If one of your projects was to visit and encourage women who could not make it to church because of illness, one entry in your journal might read: “date—June 7, 2005, fund—encouragement, description—flowers for Mary, debit—$15.” In this example since the money is being spent rather than received there would be no entry in the “credit” column. Every movement of money, either in or out, would be recorded in the journ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695600" y="304920"/>
            <a:ext cx="3352680" cy="2514600"/>
          </a:xfrm>
          <a:prstGeom prst="rect">
            <a:avLst/>
          </a:prstGeom>
          <a:ln w="0">
            <a:noFill/>
          </a:ln>
        </p:spPr>
      </p:sp>
      <p:sp>
        <p:nvSpPr>
          <p:cNvPr id="141" name="PlaceHolder 2"/>
          <p:cNvSpPr>
            <a:spLocks noGrp="1"/>
          </p:cNvSpPr>
          <p:nvPr>
            <p:ph type="body"/>
          </p:nvPr>
        </p:nvSpPr>
        <p:spPr>
          <a:xfrm>
            <a:off x="456840" y="2895480"/>
            <a:ext cx="6248520" cy="5703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ally, perhaps once a month or once a week, the entries in the journal would be added up and entered into the ledger. </a:t>
            </a:r>
            <a:r>
              <a:rPr b="1" lang="en-US" sz="1200" spc="-1" strike="noStrike">
                <a:solidFill>
                  <a:srgbClr val="000000"/>
                </a:solidFill>
                <a:latin typeface="Times New Roman"/>
              </a:rPr>
              <a:t> (Handout 4)</a:t>
            </a:r>
            <a:r>
              <a:rPr b="0" lang="en-US" sz="1200" spc="-1" strike="noStrike">
                <a:solidFill>
                  <a:srgbClr val="000000"/>
                </a:solidFill>
                <a:latin typeface="Times New Roman"/>
              </a:rPr>
              <a:t> Making ledger entries should happen at regular intervals, not just when someone happens to have extra time. When ledger entries are made the journal entries should be sorted by project (fund) and each type of entry added separately. If during the month of June flowers had been purchased for sick women on seven different occasions all seven amounts would be added up and entered as one item under the debit column on the page for the encouragement project. If during the same time groceries had been bought for sick women on three occasions their costs would be added up as a single item and placed in the debit column. You would not add the flower costs and grocery costs together. If you also had a bake sale fundraiser for the project during the month, which produced $500, the proceeds would be entered in the credit colu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ll of the income and expenses have been listed for a project they should be totaled and those figures entered onto the summary page. For the “encouragement” project an entry on the summary page would read “date—June 2005, description—encouragement, credit—$500, debit—$473.” (Note: These dollar amounts are simply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dger pages should be reviewed regularly to make sure that expenses are not exceeding available funds. This can be determined by adding up all the entries in the debit and credit columns. Then subtract the debit amount from the credit amount. If you come out with a positive amount you are in good financial shape. If the amount is negative you are in debt. If you find yourself in debt you need to stop spending money on that particular project, transfer money from another project, or raise funds. </a:t>
            </a:r>
            <a:r>
              <a:rPr b="1" lang="en-US" sz="1200" spc="-1" strike="noStrike">
                <a:solidFill>
                  <a:srgbClr val="000000"/>
                </a:solidFill>
                <a:latin typeface="Times New Roman"/>
              </a:rPr>
              <a:t>Operating in debt is unacceptable</a:t>
            </a:r>
            <a:r>
              <a:rPr b="0" lang="en-US" sz="1200" spc="-1" strike="noStrike">
                <a:solidFill>
                  <a:srgbClr val="000000"/>
                </a:solidFill>
                <a:latin typeface="Times New Roman"/>
              </a:rPr>
              <a:t>. If you wish to make a transfer from another project the action should be noted as an expenditure on that project’s page and income on the indebted project’s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ctivity should be summarized and presented to the governing body (church board, conference board, etc.) from time to time so they can know what progress you are making. This summary is called a “balance sheet.” It should list each project, how much of the budget was allotted for that project, how much money was spent for the project, and how much (if any) was raised. The totals of each of these amounts should be included on the page so they can plainly see the size of your budget and how much of it has been spent. The frequency of these reviews will vary depending on the preference of the governing body. They could be as often as once a month but should not be less often than once a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866960" y="609480"/>
            <a:ext cx="3048120" cy="2286000"/>
          </a:xfrm>
          <a:prstGeom prst="rect">
            <a:avLst/>
          </a:prstGeom>
          <a:ln w="0">
            <a:noFill/>
          </a:ln>
        </p:spPr>
      </p:sp>
      <p:sp>
        <p:nvSpPr>
          <p:cNvPr id="143"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NDING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urch treasurer handles most money transactions</a:t>
            </a:r>
            <a:r>
              <a:rPr b="0" lang="en-US" sz="1200" spc="-1" strike="noStrike">
                <a:solidFill>
                  <a:srgbClr val="000000"/>
                </a:solidFill>
                <a:latin typeface="Times New Roman"/>
              </a:rPr>
              <a:t>. The department leader will most likely be given a moderate amount of cash to handle small expenses from day to day. </a:t>
            </a:r>
            <a:r>
              <a:rPr b="1" lang="en-US" sz="1200" spc="-1" strike="noStrike">
                <a:solidFill>
                  <a:srgbClr val="000000"/>
                </a:solidFill>
                <a:latin typeface="Times New Roman"/>
              </a:rPr>
              <a:t>Each time some of this money is spent a record should be kept in the form of a receipt or a note written on a paper designated for that purpose</a:t>
            </a:r>
            <a:r>
              <a:rPr b="0" lang="en-US" sz="1200" spc="-1" strike="noStrike">
                <a:solidFill>
                  <a:srgbClr val="000000"/>
                </a:solidFill>
                <a:latin typeface="Times New Roman"/>
              </a:rPr>
              <a:t>. When the cash is gone the leader should take all of her receipts from the expenditures to the treasurer. This is the evidence that the money has indeed been spent responsibly on projects for the department. The treasurer will look at them and give the leader the amount of money that the receipts are for. For example, a leader started with $200 and had seven receipts for $10, two receipts for $5, and one receipt for $50, the total amount spent would be $130, and that would be the amount the treasurer would provide her. She would then be back to the original $200 dollar amount. This would continue as long as there continues to be money in the funds to spend (or her term of office ends—whichever come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churches give cash first, others reimburse. </a:t>
            </a:r>
            <a:r>
              <a:rPr b="0" lang="en-US" sz="1200" spc="-1" strike="noStrike">
                <a:solidFill>
                  <a:srgbClr val="000000"/>
                </a:solidFill>
                <a:latin typeface="Times New Roman"/>
              </a:rPr>
              <a:t>Either the leader asks for funds as the need arises and after she spends it she hands in her receipts to the treasurer.  Or the leader purchases the item up front, and then hands in her receipts so she can be reimbu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arge expenses the leader would take the bill directly to the treasurer for payment. Returning to the prayer breakfast example, if the cost of renting the meeting place was $1500 this bill would be taken directly to the treasurer. </a:t>
            </a:r>
            <a:r>
              <a:rPr b="1" lang="en-US" sz="1200" spc="-1" strike="noStrike">
                <a:solidFill>
                  <a:srgbClr val="000000"/>
                </a:solidFill>
                <a:latin typeface="Times New Roman"/>
              </a:rPr>
              <a:t>In case of large expenses, the treasurer should be told in advance that you plan to spend the money and which part of the budget you want it to be taken from.</a:t>
            </a:r>
            <a:r>
              <a:rPr b="0" lang="en-US" sz="1200" spc="-1" strike="noStrike">
                <a:solidFill>
                  <a:srgbClr val="000000"/>
                </a:solidFill>
                <a:latin typeface="Times New Roman"/>
              </a:rPr>
              <a:t> Even when you are not directly paying the bill these expenses should be noted in your log.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879560" y="762120"/>
            <a:ext cx="2946600" cy="2209680"/>
          </a:xfrm>
          <a:prstGeom prst="rect">
            <a:avLst/>
          </a:prstGeom>
          <a:ln w="0">
            <a:noFill/>
          </a:ln>
        </p:spPr>
      </p:sp>
      <p:sp>
        <p:nvSpPr>
          <p:cNvPr id="145"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CHURCH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general concepts of budgeting are the same for all levels of church administration, we need to take a special look at the local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is extremely important to keep in mind that the size of the church and the benevolence of the members will affect the plans and finances of all areas of the church</a:t>
            </a:r>
            <a:r>
              <a:rPr b="0" lang="en-US" sz="1200" spc="-1" strike="noStrike">
                <a:solidFill>
                  <a:srgbClr val="000000"/>
                </a:solidFill>
                <a:latin typeface="Times New Roman"/>
              </a:rPr>
              <a:t>.  Remember that the </a:t>
            </a:r>
            <a:r>
              <a:rPr b="1" lang="en-US" sz="1200" spc="-1" strike="noStrike">
                <a:solidFill>
                  <a:srgbClr val="000000"/>
                </a:solidFill>
                <a:latin typeface="Times New Roman"/>
              </a:rPr>
              <a:t>local church income comes from the church budget.</a:t>
            </a:r>
            <a:r>
              <a:rPr b="0" lang="en-US" sz="1200" spc="-1" strike="noStrike">
                <a:solidFill>
                  <a:srgbClr val="000000"/>
                </a:solidFill>
                <a:latin typeface="Times New Roman"/>
              </a:rPr>
              <a:t>  </a:t>
            </a:r>
            <a:r>
              <a:rPr b="1" lang="en-US" sz="1200" spc="-1" strike="noStrike">
                <a:solidFill>
                  <a:srgbClr val="000000"/>
                </a:solidFill>
                <a:latin typeface="Times New Roman"/>
              </a:rPr>
              <a:t>Tithe funds are </a:t>
            </a:r>
            <a:r>
              <a:rPr b="1" lang="en-US" sz="1200" spc="-1" strike="noStrike" u="sng">
                <a:solidFill>
                  <a:srgbClr val="000000"/>
                </a:solidFill>
                <a:uFillTx/>
                <a:latin typeface="Times New Roman"/>
              </a:rPr>
              <a:t>not</a:t>
            </a:r>
            <a:r>
              <a:rPr b="1" lang="en-US" sz="1200" spc="-1" strike="noStrike">
                <a:solidFill>
                  <a:srgbClr val="000000"/>
                </a:solidFill>
                <a:latin typeface="Times New Roman"/>
              </a:rPr>
              <a:t> part of the local church budget; likewise, </a:t>
            </a:r>
            <a:r>
              <a:rPr b="0" lang="en-US" sz="1200" spc="-1" strike="noStrike">
                <a:solidFill>
                  <a:srgbClr val="000000"/>
                </a:solidFill>
                <a:latin typeface="Times New Roman"/>
              </a:rPr>
              <a:t>Sabbath School and other mission offerings are forwarded to the local conference and are not available for local church expenses.  The church membership may be large, but unless the members are generous in their financial gifts and offerings to the </a:t>
            </a:r>
            <a:r>
              <a:rPr b="0" lang="en-US" sz="1200" spc="-1" strike="noStrike" u="sng">
                <a:solidFill>
                  <a:srgbClr val="000000"/>
                </a:solidFill>
                <a:uFillTx/>
                <a:latin typeface="Times New Roman"/>
              </a:rPr>
              <a:t>local</a:t>
            </a:r>
            <a:r>
              <a:rPr b="0" lang="en-US" sz="1200" spc="-1" strike="noStrike">
                <a:solidFill>
                  <a:srgbClr val="000000"/>
                </a:solidFill>
                <a:latin typeface="Times New Roman"/>
              </a:rPr>
              <a:t> church budget, the treasurer will not have funds for all the programs the members may feel they are entitled to have.  If the water or heat to the church building is cut off for lack of funds, you can be sure that these items will be paid first, before any of the ministry departments of the church are allotted funding for thei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you are a team member in the local church.  As much as the pastor and church treasurer may want to cooperate with you their hands may be tied by financial constraints.  Your program may be put on hold for a few months while the local church treasurer searches and reallocates funds.  What may be available on paper may not be available in reality.  It all depends on available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e discouraged.  Remember your mission is to provide for the spiritual needs of women in your church and community.  Continue to provide services that will address these needs at little or no cost.  Pray for the Lord’s blessings and pray for the members of your church that they may be awakened by the Holy Sprit to be faithful not only in tithes but also in offerings for the local church budge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932120" y="685800"/>
            <a:ext cx="2727360" cy="2046240"/>
          </a:xfrm>
          <a:prstGeom prst="rect">
            <a:avLst/>
          </a:prstGeom>
          <a:ln w="0">
            <a:noFill/>
          </a:ln>
        </p:spPr>
      </p:sp>
      <p:sp>
        <p:nvSpPr>
          <p:cNvPr id="147"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DRAI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s provided by church boards aren’t always what we would like them to be. This can be especially true if your department is new and they have not yet realized how valuable it can be. When provided funds are depleted it is time to come up with 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undraisers take the form of making and selling something to the community. This can be food or crafts, or something more experience-oriented like a musical program or Christmas play. Whatever the specific program is the general concept is that you provide something at little or no cost for which the community has a need and is willing to pay. Fundraisers can also perform some sort of service such as lawn mowing or car washing. Funds might also be raised through voluntary dues or personal appeals to generous church or community members for a specific progra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882800" y="685800"/>
            <a:ext cx="3033720" cy="2274840"/>
          </a:xfrm>
          <a:prstGeom prst="rect">
            <a:avLst/>
          </a:prstGeom>
          <a:ln w="0">
            <a:noFill/>
          </a:ln>
        </p:spPr>
      </p:sp>
      <p:sp>
        <p:nvSpPr>
          <p:cNvPr id="149"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AL CONTRO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al controls are the “checks and balances” of a budget system.</a:t>
            </a:r>
            <a:r>
              <a:rPr b="0" lang="en-US" sz="1200" spc="-1" strike="noStrike">
                <a:solidFill>
                  <a:srgbClr val="000000"/>
                </a:solidFill>
                <a:latin typeface="Times New Roman"/>
              </a:rPr>
              <a:t> They ensure that all </a:t>
            </a:r>
            <a:r>
              <a:rPr b="1" lang="en-US" sz="1200" spc="-1" strike="noStrike">
                <a:solidFill>
                  <a:srgbClr val="000000"/>
                </a:solidFill>
                <a:latin typeface="Times New Roman"/>
              </a:rPr>
              <a:t>money is accounted for and used in the way specified in the budget</a:t>
            </a:r>
            <a:r>
              <a:rPr b="0" lang="en-US" sz="1200" spc="-1" strike="noStrike">
                <a:solidFill>
                  <a:srgbClr val="000000"/>
                </a:solidFill>
                <a:latin typeface="Times New Roman"/>
              </a:rPr>
              <a:t>. This means that only a few people can spend the money and several different people are involved in keeping the books. Internal controls are necessary for several reasons. First, they </a:t>
            </a:r>
            <a:r>
              <a:rPr b="1" lang="en-US" sz="1200" spc="-1" strike="noStrike">
                <a:solidFill>
                  <a:srgbClr val="000000"/>
                </a:solidFill>
                <a:latin typeface="Times New Roman"/>
              </a:rPr>
              <a:t>catch accounting errors</a:t>
            </a:r>
            <a:r>
              <a:rPr b="0" lang="en-US" sz="1200" spc="-1" strike="noStrike">
                <a:solidFill>
                  <a:srgbClr val="000000"/>
                </a:solidFill>
                <a:latin typeface="Times New Roman"/>
              </a:rPr>
              <a:t>. Second, they </a:t>
            </a:r>
            <a:r>
              <a:rPr b="1" lang="en-US" sz="1200" spc="-1" strike="noStrike">
                <a:solidFill>
                  <a:srgbClr val="000000"/>
                </a:solidFill>
                <a:latin typeface="Times New Roman"/>
              </a:rPr>
              <a:t>prevent overspending.</a:t>
            </a:r>
            <a:r>
              <a:rPr b="0" lang="en-US" sz="1200" spc="-1" strike="noStrike">
                <a:solidFill>
                  <a:srgbClr val="000000"/>
                </a:solidFill>
                <a:latin typeface="Times New Roman"/>
              </a:rPr>
              <a:t> Third, </a:t>
            </a:r>
            <a:r>
              <a:rPr b="1" lang="en-US" sz="1200" spc="-1" strike="noStrike">
                <a:solidFill>
                  <a:srgbClr val="000000"/>
                </a:solidFill>
                <a:latin typeface="Times New Roman"/>
              </a:rPr>
              <a:t>they keep money from being spent the wrong way.</a:t>
            </a:r>
            <a:r>
              <a:rPr b="0" lang="en-US" sz="1200" spc="-1" strike="noStrike">
                <a:solidFill>
                  <a:srgbClr val="000000"/>
                </a:solidFill>
                <a:latin typeface="Times New Roman"/>
              </a:rPr>
              <a:t> Finally, they </a:t>
            </a:r>
            <a:r>
              <a:rPr b="1" lang="en-US" sz="1200" spc="-1" strike="noStrike">
                <a:solidFill>
                  <a:srgbClr val="000000"/>
                </a:solidFill>
                <a:latin typeface="Times New Roman"/>
              </a:rPr>
              <a:t>make theft more difficul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like the last reason for controls. Everyone would like to think that the people around them are honest, especially in a Christian community. As with most sins, however, it rarely looks wrong at the time. People may only intend to borrow the money at first. Simply having access to large sums of money can be a temptation. Aside from catching honest mistakes in math, having controls can serve to deter people from starting down the slippery slope simply because they know they are likely to get caught if they tr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churches may already have controls in place. You should ask your treasurer what they are. If no controls exist you should create your own. Money should only be managed by a few people. Everyone should understand who those people are and how to request that money be spent on any particular projec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sk your treasurer from time to time for a copy of his or her records of your fund activity. He or she should also be keeping track of the money you have spent and earned, and by comparing them you can check to make sure none of the math has been done incorrectly. If there is a discrepancy, all figures should be re-added and the journal checked to be sure an entry wasn’t forgotten. If the numbers still don’t match you should ask your treasurer to recheck their numbers. If that doesn’t solve the problem you may have experienced a thef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hold a fundraiser more than one person should be involved in collecting the money. Preferably, they should not be of the same family. At the time of the event they should count all the money and make a written statement of how much was collected. One copy of this should be given to the leader and the other to the treasurer. When this money is delivered to the treasurer he or she should also count it and make a record. The two records should agree. This ensures that neither those who originally counted it or the treasurer can simply slip some of the money in their pocket. If there is a discrepancy the two or more people who counted it can witness for each other that there was no theft. Because of the likelihood that someone trying to steal in such an environment would get caught, it is much less likely that they would t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701280" y="762120"/>
            <a:ext cx="5607000" cy="78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few people should be authorized to spend money. This would probably mean just the leader and one or two assistants. All people authorized to spend should know how much they are allowed to spend, what they are allowed to spend it for, and which project the money is coming from. This prevents confusion and over spending. If there was a fund for helping the less fortunate and a leader planned to spend the money to feed the hungry but her assistant, not knowing what she planned, spent it on buying warm clothes to hand out to them before winter, the money would no longer be there for the leader to spend. tf would get even worse if the leader, not realizing the money had already been spent, spent money on the food and put the project in debt. Both women had the best of intentions, but they needed to communicate better about how the money was to be sp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good way to avoid confusion is to have a Women’s Ministries treasurer. The Women’s Ministries committee of the church would appoint this person. Her duties would be to keep the ledger, maintain copies of all receipts, approve expenses, perform the checks with the church treasurer’s records, and prepare balance sheets. The director would have the final say on how money was spent, and the treasurer would report to her, but separating these duties and giving them to the treasurer frees the director to work on other projects. All money matters should go through the treasu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ime through the budget process is always the hardest.  Be sure to save your worksheets and notes about how you reached certain conclusions in regard to the budget.  This may be helpful to you the following year and will definitely be of help to the Women’s Ministries director that follows in your foo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hurch has entrusted you to direct Women’s Ministries.  Part of that trust is to be a good steward of the funds that have been entrusted to you for the work you have been assigned.  God bless as you lay your plans and prepare your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890720" y="663480"/>
            <a:ext cx="2665440" cy="1998720"/>
          </a:xfrm>
          <a:prstGeom prst="rect">
            <a:avLst/>
          </a:prstGeom>
          <a:ln w="0">
            <a:noFill/>
          </a:ln>
        </p:spPr>
      </p:sp>
      <p:sp>
        <p:nvSpPr>
          <p:cNvPr id="125" name="PlaceHolder 2"/>
          <p:cNvSpPr>
            <a:spLocks noGrp="1"/>
          </p:cNvSpPr>
          <p:nvPr>
            <p:ph type="body"/>
          </p:nvPr>
        </p:nvSpPr>
        <p:spPr>
          <a:xfrm>
            <a:off x="701280" y="3086280"/>
            <a:ext cx="5607000" cy="5513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ING FOR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ilver is mine and the gold is mine, declares the LORD Almigh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ggai 2:8 NI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matter if your currency is known as Euros, Pesos, or Dollars, whatever you call it, you need to develop and manage a budget for your Women’s Ministries.  Individuals, families, businesses, governments, and various organizations plan and use budgets.  While a child may have a limited amount of currency to budget for his or her wants, government budgets involve billions of dollars.  But all budgets are similar to one another in certain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great-grandmother probably had various envelopes labeled for food, electricity, rent, etc. and put a certain amount of money in each envelope.  When the money in the envelope was gone, she might have transferred funds left in one envelope to another.  In today’s world we have more formal ways of budgeting and managing our finances based on the same simple concep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297160" y="663480"/>
            <a:ext cx="2709720" cy="2032200"/>
          </a:xfrm>
          <a:prstGeom prst="rect">
            <a:avLst/>
          </a:prstGeom>
          <a:ln w="0">
            <a:noFill/>
          </a:ln>
        </p:spPr>
      </p:sp>
      <p:sp>
        <p:nvSpPr>
          <p:cNvPr id="127" name="PlaceHolder 2"/>
          <p:cNvSpPr>
            <a:spLocks noGrp="1"/>
          </p:cNvSpPr>
          <p:nvPr>
            <p:ph type="body"/>
          </p:nvPr>
        </p:nvSpPr>
        <p:spPr>
          <a:xfrm>
            <a:off x="779040" y="3007800"/>
            <a:ext cx="5607000" cy="5123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proceed, let’s take a look at a Biblical passage that deals with budgeting. “Suppose one of you wants to build a tower.  Will he not first sit down and estimate the cost to see if he has enough money to complete it?  For if he lays the foundation and is not able to finish it, everyone who sees it will ridicule him, saying, `This fellow began to build and was not able to finish.’ ” Luke 14:28-30 (NIV). As good stewards we need to sit down and estimate the cost of the mission we want to accomplish in Women’s Ministries.  And that process is budget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663560" y="762120"/>
            <a:ext cx="3759480" cy="2819160"/>
          </a:xfrm>
          <a:prstGeom prst="rect">
            <a:avLst/>
          </a:prstGeom>
          <a:ln w="0">
            <a:noFill/>
          </a:ln>
        </p:spPr>
      </p:sp>
      <p:sp>
        <p:nvSpPr>
          <p:cNvPr id="129" name="PlaceHolder 2"/>
          <p:cNvSpPr>
            <a:spLocks noGrp="1"/>
          </p:cNvSpPr>
          <p:nvPr>
            <p:ph type="body"/>
          </p:nvPr>
        </p:nvSpPr>
        <p:spPr>
          <a:xfrm>
            <a:off x="701280" y="3809880"/>
            <a:ext cx="5607000" cy="4789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A BUD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don’t like budgeting. Not too many people do, but it is a necessary part of your duties as you take responsibility for Women’s Ministries.  A budget is merely a plan for how you will spend funds.  It insures good stewardship and that available income will meet the needs for the programs and activities you wish to accomplish.  A well-planned budget will reflect the mission that you have established for your level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vels of Women’s Ministries administration need to have some basic knowledge of budgeting.  Whether you are working in a local church or in a more administrative position, basic knowledge of budgeting will aid your ministry. Because of the many things a Women’s Ministries Leader has to do, w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that you choose a treasurer who will work with you and handle managing and documenting your departmen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well-planned and realistic budget you can look to the future, monthly or yearly, and anticipate any problems and make adjustments by postponing expenditures or obtaining additional funding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udget can help motivate you to reach your goals by creating realistic objectives and showing how they will be achieved.  Your budget will help you control finances because it enables you to measure the actual performance of your department against your planne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ing will guide you to where the program’s promotional money comes from, how to ask for and obtain funding, and how to spend it and account for the allocated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006640" y="457200"/>
            <a:ext cx="2844720" cy="2133720"/>
          </a:xfrm>
          <a:prstGeom prst="rect">
            <a:avLst/>
          </a:prstGeom>
          <a:ln w="0">
            <a:noFill/>
          </a:ln>
        </p:spPr>
      </p:sp>
      <p:sp>
        <p:nvSpPr>
          <p:cNvPr id="131" name="PlaceHolder 2"/>
          <p:cNvSpPr>
            <a:spLocks noGrp="1"/>
          </p:cNvSpPr>
          <p:nvPr>
            <p:ph type="body"/>
          </p:nvPr>
        </p:nvSpPr>
        <p:spPr>
          <a:xfrm>
            <a:off x="685440" y="2895120"/>
            <a:ext cx="5607000" cy="6085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S TO ESTABLISHING THE SIZE OF YOUR BUD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One</a:t>
            </a:r>
            <a:r>
              <a:rPr b="0" lang="en-US" sz="1200" spc="-1" strike="noStrike">
                <a:solidFill>
                  <a:srgbClr val="000000"/>
                </a:solidFill>
                <a:latin typeface="Times New Roman"/>
              </a:rPr>
              <a:t>.  The first step in making a budget for future income and expenditures is to </a:t>
            </a:r>
            <a:r>
              <a:rPr b="1" lang="en-US" sz="1200" spc="-1" strike="noStrike">
                <a:solidFill>
                  <a:srgbClr val="000000"/>
                </a:solidFill>
                <a:latin typeface="Times New Roman"/>
              </a:rPr>
              <a:t>list the goals</a:t>
            </a:r>
            <a:r>
              <a:rPr b="0" lang="en-US" sz="1200" spc="-1" strike="noStrike">
                <a:solidFill>
                  <a:srgbClr val="000000"/>
                </a:solidFill>
                <a:latin typeface="Times New Roman"/>
              </a:rPr>
              <a:t> you want to achieve for the fiscal year in broad strokes.  Set goals for growth in your area of responsibility and establish plans with specific targets that will help you meet those goals. Decide what specific projects and programs you want to implement. Determine which programs require financial support. For example, if you wanted to start a women’s prayer group that would meet at church for a half hour before Sabbath School began, it probably wouldn’t cost anything extra to do this. On the other hand, if you wanted to take hot meals to elderly members of your community you would need funds for purchasing the food and providing 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Two</a:t>
            </a:r>
            <a:r>
              <a:rPr b="0" lang="en-US" sz="1200" spc="-1" strike="noStrike">
                <a:solidFill>
                  <a:srgbClr val="000000"/>
                </a:solidFill>
                <a:latin typeface="Times New Roman"/>
              </a:rPr>
              <a:t>.  Ask other department leaders how large their budgets are. It would not be unreasonable to request a similar amount. </a:t>
            </a:r>
            <a:r>
              <a:rPr b="1" lang="en-US" sz="1200" spc="-1" strike="noStrike">
                <a:solidFill>
                  <a:srgbClr val="000000"/>
                </a:solidFill>
                <a:latin typeface="Times New Roman"/>
              </a:rPr>
              <a:t>Schedule a visit with the treasurer of the organization</a:t>
            </a:r>
            <a:r>
              <a:rPr b="0" lang="en-US" sz="1200" spc="-1" strike="noStrike">
                <a:solidFill>
                  <a:srgbClr val="000000"/>
                </a:solidFill>
                <a:latin typeface="Times New Roman"/>
              </a:rPr>
              <a:t> you report to such as your church or conference treasurer.  The first appropriate question is what is an estimate of a realistic budget to set for your department?  There is no reason to begin thinking of programs and materials that will cost $100,000 even if the maximum budget you will be given for your department is $35,000.  Ask what administrative items will be charged to your department.  For example, will long distance phone expenses be charged to your department budget or are they absorbed as a general expense by the church, conference, or other organization? If you truly believe you have programs that must take place, but will significantly exceed the funds you expect to get, you will have to either convince your leaders that the extra expenditures are worthy or start planning ways to raise extra funds on y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Three</a:t>
            </a:r>
            <a:r>
              <a:rPr b="0" lang="en-US" sz="1200" spc="-1" strike="noStrike">
                <a:solidFill>
                  <a:srgbClr val="000000"/>
                </a:solidFill>
                <a:latin typeface="Times New Roman"/>
              </a:rPr>
              <a:t>.  </a:t>
            </a:r>
            <a:r>
              <a:rPr b="1" lang="en-US" sz="1200" spc="-1" strike="noStrike">
                <a:solidFill>
                  <a:srgbClr val="000000"/>
                </a:solidFill>
                <a:latin typeface="Times New Roman"/>
              </a:rPr>
              <a:t>Look back at how past income and expenditures</a:t>
            </a:r>
            <a:r>
              <a:rPr b="0" lang="en-US" sz="1200" spc="-1" strike="noStrike">
                <a:solidFill>
                  <a:srgbClr val="000000"/>
                </a:solidFill>
                <a:latin typeface="Times New Roman"/>
              </a:rPr>
              <a:t> were managed. List the programs that you would like to repeat and how much they cost.  Base your estimates on what happened previously with an increase for inflation.  Note:  If this is the first budget for your area of responsibility in Women’s Ministries, you will not have the benefit of this st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body"/>
          </p:nvPr>
        </p:nvSpPr>
        <p:spPr>
          <a:xfrm>
            <a:off x="701280" y="685800"/>
            <a:ext cx="5607000" cy="79135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word of caution as you look at the past.  Don’t think that you have to do the same thing that was done in the previous year.  You do not want to simply modify what happened last year.  Once again, think of your goals for the coming year.  Look at every expense and ask, “How did that program promote our mission?”  If you can’t answer that question, eliminate that line item from your budget the coming year.  Zero-based budgeting (starting at zero every year) is your aim, not “We’ve always done it that way.” Add any new programs that you would like to start and their estimated costs to the l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Four</a:t>
            </a:r>
            <a:r>
              <a:rPr b="0" lang="en-US" sz="1200" spc="-1" strike="noStrike">
                <a:solidFill>
                  <a:srgbClr val="000000"/>
                </a:solidFill>
                <a:latin typeface="Times New Roman"/>
              </a:rPr>
              <a:t>.  </a:t>
            </a:r>
            <a:r>
              <a:rPr b="1" lang="en-US" sz="1200" spc="-1" strike="noStrike">
                <a:solidFill>
                  <a:srgbClr val="000000"/>
                </a:solidFill>
                <a:latin typeface="Times New Roman"/>
              </a:rPr>
              <a:t>List your expected income and expenses</a:t>
            </a:r>
            <a:r>
              <a:rPr b="0" lang="en-US" sz="1200" spc="-1" strike="noStrike">
                <a:solidFill>
                  <a:srgbClr val="000000"/>
                </a:solidFill>
                <a:latin typeface="Times New Roman"/>
              </a:rPr>
              <a:t> by categories.  Remember, your list will reflect the situation in your organization and may or may not include the line items listed in the sample below: (Sample spread sheet 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Budge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fts/Donat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d Rais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lephon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plicating</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ionar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stag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General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eeting(s) for Wom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Fe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Transporta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Lodg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ference or Union-Wide 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Meetings Expen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vertis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gram Prin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ifts/Handou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freshm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om R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quipment Rental or Purcha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Program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ve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Travel Expe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body"/>
          </p:nvPr>
        </p:nvSpPr>
        <p:spPr>
          <a:xfrm>
            <a:off x="701280" y="609480"/>
            <a:ext cx="5607000" cy="798984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budgets consist, at least in part, of estimated expenses, so don’t be concerned if you don’t have actual amounts for each category listed.  Do, however, make a very educated estimate in those areas.  For instance, look at our sample budget. In order to make an educated estimate for the prayer breakfast, you may want to make a separate more detailed budget for that event in order to have a better understanding of the cost.  (See sample spreadsheet 2). Make your estimates slightly higher than anticipated expenses. Committees like to reduce budgets. It is preferable to propose a higher amount and not quite get it all than to ask for a smaller amount and get nothing at a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5</a:t>
            </a:r>
            <a:r>
              <a:rPr b="0" lang="en-US" sz="1200" spc="-1" strike="noStrike">
                <a:solidFill>
                  <a:srgbClr val="000000"/>
                </a:solidFill>
                <a:latin typeface="Times New Roman"/>
              </a:rPr>
              <a:t>.  </a:t>
            </a:r>
            <a:r>
              <a:rPr b="1" lang="en-US" sz="1200" spc="-1" strike="noStrike">
                <a:solidFill>
                  <a:srgbClr val="000000"/>
                </a:solidFill>
                <a:latin typeface="Times New Roman"/>
              </a:rPr>
              <a:t>Budget for the unexpected</a:t>
            </a:r>
            <a:r>
              <a:rPr b="0" lang="en-US" sz="1200" spc="-1" strike="noStrike">
                <a:solidFill>
                  <a:srgbClr val="000000"/>
                </a:solidFill>
                <a:latin typeface="Times New Roman"/>
              </a:rPr>
              <a:t>.  In budgeting terms this is called contingency and is usually approximately 10% of the overall budge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6</a:t>
            </a:r>
            <a:r>
              <a:rPr b="0" lang="en-US" sz="1200" spc="-1" strike="noStrike">
                <a:solidFill>
                  <a:srgbClr val="000000"/>
                </a:solidFill>
                <a:latin typeface="Times New Roman"/>
              </a:rPr>
              <a:t>.  </a:t>
            </a:r>
            <a:r>
              <a:rPr b="1" lang="en-US" sz="1200" spc="-1" strike="noStrike">
                <a:solidFill>
                  <a:srgbClr val="000000"/>
                </a:solidFill>
                <a:latin typeface="Times New Roman"/>
              </a:rPr>
              <a:t>Be sure that your expenses do not total more than the income</a:t>
            </a:r>
            <a:r>
              <a:rPr b="0" lang="en-US" sz="1200" spc="-1" strike="noStrike">
                <a:solidFill>
                  <a:srgbClr val="000000"/>
                </a:solidFill>
                <a:latin typeface="Times New Roman"/>
              </a:rPr>
              <a:t>.  Expenses may be less than income, but to have a balanced budget the expenses must never be more than the projected inco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7</a:t>
            </a:r>
            <a:r>
              <a:rPr b="0" lang="en-US" sz="1200" spc="-1" strike="noStrike">
                <a:solidFill>
                  <a:srgbClr val="000000"/>
                </a:solidFill>
                <a:latin typeface="Times New Roman"/>
              </a:rPr>
              <a:t>.  </a:t>
            </a:r>
            <a:r>
              <a:rPr b="1" lang="en-US" sz="1200" spc="-1" strike="noStrike">
                <a:solidFill>
                  <a:srgbClr val="000000"/>
                </a:solidFill>
                <a:latin typeface="Times New Roman"/>
              </a:rPr>
              <a:t>Present your budget to the appropriate board or treasurer for approval.</a:t>
            </a:r>
            <a:r>
              <a:rPr b="0" lang="en-US" sz="1200" spc="-1" strike="noStrike">
                <a:solidFill>
                  <a:srgbClr val="000000"/>
                </a:solidFill>
                <a:latin typeface="Times New Roman"/>
              </a:rPr>
              <a:t> Provide documentation for how you came up with your estimates. Boards like to know how you arrived at your figures. Do not approach the subject as a statement of need. They know that you believe you need the money. Present your budget by describing how the programs in it will benefit the church or the community as a whole. If you want to have a prayer breakfast, for example, tell them how it will be spiritually beneficial for the women who attend. If they are unwilling to grant you the full amount you have requested you will have to look for ways to cut it down. Ask yourself which programs are most important to you. Look back at the mini budgets for each program and see if there are areas where you can cut back. If you have cut everything you can and are still over the approved budget size you will have to find other ways to raise funds. Work closely with the board or treasurer to make adjustments and obtain approv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8</a:t>
            </a:r>
            <a:r>
              <a:rPr b="0" lang="en-US" sz="1200" spc="-1" strike="noStrike">
                <a:solidFill>
                  <a:srgbClr val="000000"/>
                </a:solidFill>
                <a:latin typeface="Times New Roman"/>
              </a:rPr>
              <a:t>.  At the end of the year compare your actual expenses with the budgeted amounts to evaluate your overall performance.  Were you able to accomplish your goals within the budg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 starting point for the coming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881360" y="609480"/>
            <a:ext cx="2828880" cy="2122560"/>
          </a:xfrm>
          <a:prstGeom prst="rect">
            <a:avLst/>
          </a:prstGeom>
          <a:ln w="0">
            <a:noFill/>
          </a:ln>
        </p:spPr>
      </p:sp>
      <p:sp>
        <p:nvSpPr>
          <p:cNvPr id="135"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NCIL OR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rks best to </a:t>
            </a:r>
            <a:r>
              <a:rPr b="1" lang="en-US" sz="1200" spc="-1" strike="noStrike">
                <a:solidFill>
                  <a:srgbClr val="000000"/>
                </a:solidFill>
                <a:latin typeface="Times New Roman"/>
              </a:rPr>
              <a:t>start your budget planning with paper and pencil as you list ideas and estimate costs</a:t>
            </a:r>
            <a:r>
              <a:rPr b="0" lang="en-US" sz="1200" spc="-1" strike="noStrike">
                <a:solidFill>
                  <a:srgbClr val="000000"/>
                </a:solidFill>
                <a:latin typeface="Times New Roman"/>
              </a:rPr>
              <a:t>.  Eventually, however, you will find it most helpful to </a:t>
            </a:r>
            <a:r>
              <a:rPr b="1" lang="en-US" sz="1200" spc="-1" strike="noStrike">
                <a:solidFill>
                  <a:srgbClr val="000000"/>
                </a:solidFill>
                <a:latin typeface="Times New Roman"/>
              </a:rPr>
              <a:t>put your budget in a computer spreadsheet</a:t>
            </a:r>
            <a:r>
              <a:rPr b="0" lang="en-US" sz="1200" spc="-1" strike="noStrike">
                <a:solidFill>
                  <a:srgbClr val="000000"/>
                </a:solidFill>
                <a:latin typeface="Times New Roman"/>
              </a:rPr>
              <a:t> </a:t>
            </a:r>
            <a:r>
              <a:rPr b="1" lang="en-US" sz="1200" spc="-1" strike="noStrike">
                <a:solidFill>
                  <a:srgbClr val="000000"/>
                </a:solidFill>
                <a:latin typeface="Times New Roman"/>
              </a:rPr>
              <a:t>such as Excel</a:t>
            </a:r>
            <a:r>
              <a:rPr b="0" lang="en-US" sz="1200" spc="-1" strike="noStrike">
                <a:solidFill>
                  <a:srgbClr val="000000"/>
                </a:solidFill>
                <a:latin typeface="Times New Roman"/>
              </a:rPr>
              <a:t>, if such software programs are available.  This will allow you to easily make the inevitable changes throughout the budgeting process. If a computer is unavailable, however, you will want to acquire a ledger and a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dger can be as simple as a blank piece of paper on which you draw a table. More elaborate ledgers can be purchased from office supply stores as either pads of paper or bound books. A journal can be on almost any type of paper available, though a spiral notebook or composition pad would be prefer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868400" y="685800"/>
            <a:ext cx="3235320" cy="2427120"/>
          </a:xfrm>
          <a:prstGeom prst="rect">
            <a:avLst/>
          </a:prstGeom>
          <a:ln w="0">
            <a:noFill/>
          </a:ln>
        </p:spPr>
      </p:sp>
      <p:sp>
        <p:nvSpPr>
          <p:cNvPr id="137" name="PlaceHolder 2"/>
          <p:cNvSpPr>
            <a:spLocks noGrp="1"/>
          </p:cNvSpPr>
          <p:nvPr>
            <p:ph type="body"/>
          </p:nvPr>
        </p:nvSpPr>
        <p:spPr>
          <a:xfrm>
            <a:off x="701280" y="3505320"/>
            <a:ext cx="5607000" cy="50940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ING RECOR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r budget has been approved it is time to start spending it on all your worthy projects and recording those expenditures. First, you need to set up your ledger.  Whether on computer or paper the process is much the same. Each project should receive its own page. The page should have a heading that gives the name of the project, its account number (if applicable), and the date when the page was started. The top row of the table should include the following headings: “date,”  “description,” “deposits” (or “credits”), and “expenditures” (or “debits”). </a:t>
            </a:r>
            <a:r>
              <a:rPr b="1" lang="en-US" sz="1200" spc="-1" strike="noStrike">
                <a:solidFill>
                  <a:srgbClr val="000000"/>
                </a:solidFill>
                <a:latin typeface="Times New Roman"/>
              </a:rPr>
              <a:t>(Handout 3) </a:t>
            </a:r>
            <a:r>
              <a:rPr b="0" lang="en-US" sz="1200" spc="-1" strike="noStrike">
                <a:solidFill>
                  <a:srgbClr val="000000"/>
                </a:solidFill>
                <a:latin typeface="Times New Roman"/>
              </a:rPr>
              <a:t>There should also be a summary page with the same headings. The journal should have four columns labeled “date,” “description,” “credit,” and “debit.” When using either the ledger or journal, more columns can be added if you need more categories. These are just the bas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8C0E6-8A9F-436D-A45A-FCD40DFFB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2A88-5CDB-4CF3-AC5B-FC20540CE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5BB65-EA32-4524-A3DC-C65A39DF7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31008-63F0-4DBD-A265-EB3B60828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BB23C-F648-4B29-B8F2-83AF6F385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7B2CB-4EF8-438A-9651-4563C8A4A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F263C-C32D-48D4-B73A-EF21D5D30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37970-0A2B-40E5-B06C-A88429637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56EB8-C1AB-4D91-BA71-9FF9E2BB0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1AA89-2345-4F61-9738-A12C5DFEF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1420D-C904-493C-8F2C-4E5044E6A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CBEAF-3061-4DD5-A664-7A207834A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DDD94-D475-40E7-8BDC-90CB3A053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B127F-D29E-410C-BE76-22716D058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E6238-3B5C-474C-8FF3-15719F83A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A708D-5052-481A-ABD0-E11A6FDDC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8B988-DF85-4C57-9863-77E2416FA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D33AB-7611-4490-8727-3F652042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F01C8-5D64-4E13-9C80-2B4200F4B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D5041-D106-460C-B956-3AE055F64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8F42C-EE40-4DAB-95C4-015C4B1F2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934A-9D37-4CBF-8714-2D02C5FC4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31CB-2AB8-43D9-9D3E-AA22DC19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130C-F88D-4AEA-BD8A-9AC2EB1AC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572040" indent="-2199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87984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23192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124F-DD71-4350-B38F-170A6A8C55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8075-69B9-485E-9990-BA69F5A086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1676520"/>
            <a:ext cx="8991720" cy="121896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hanticleerRoman"/>
              </a:rPr>
              <a:t>Budgeting For Women’s Ministries</a:t>
            </a:r>
            <a:endParaRPr b="1" lang="en-US" sz="7200" spc="-1" strike="noStrike">
              <a:solidFill>
                <a:srgbClr val="ffffff"/>
              </a:solidFill>
              <a:latin typeface="Arial"/>
            </a:endParaRPr>
          </a:p>
        </p:txBody>
      </p:sp>
      <p:sp>
        <p:nvSpPr>
          <p:cNvPr id="90" name="PlaceHolder 2"/>
          <p:cNvSpPr>
            <a:spLocks noGrp="1"/>
          </p:cNvSpPr>
          <p:nvPr>
            <p:ph/>
          </p:nvPr>
        </p:nvSpPr>
        <p:spPr>
          <a:xfrm>
            <a:off x="914040" y="4343040"/>
            <a:ext cx="7620120" cy="198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Linda de Leon and Lisa Rasmusse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Certification Course Level 2</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s Ministries General Confer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flipV="1">
            <a:off x="533520" y="1904760"/>
            <a:ext cx="792468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85800" y="1828800"/>
            <a:ext cx="701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8" name=""/>
          <p:cNvGraphicFramePr/>
          <p:nvPr/>
        </p:nvGraphicFramePr>
        <p:xfrm>
          <a:off x="76320" y="1447920"/>
          <a:ext cx="9067680" cy="4905360"/>
        </p:xfrm>
        <a:graphic>
          <a:graphicData uri="http://schemas.openxmlformats.org/drawingml/2006/table">
            <a:tbl>
              <a:tblPr/>
              <a:tblGrid>
                <a:gridCol w="1558800"/>
                <a:gridCol w="1962000"/>
                <a:gridCol w="2433960"/>
                <a:gridCol w="1593720"/>
                <a:gridCol w="1519200"/>
              </a:tblGrid>
              <a:tr h="55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ate</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Fund</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escription</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Cred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eb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6/7/05</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Encouragement</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Flowers for Mary</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15.00</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28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1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9" name=""/>
          <p:cNvSpPr/>
          <p:nvPr/>
        </p:nvSpPr>
        <p:spPr>
          <a:xfrm>
            <a:off x="457200" y="228600"/>
            <a:ext cx="3124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hurch Na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et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State Zi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u="sng">
                <a:solidFill>
                  <a:srgbClr val="ffffff"/>
                </a:solidFill>
                <a:uFillTx/>
                <a:latin typeface="Arial"/>
              </a:rPr>
              <a:t>January 1, 2005</a:t>
            </a:r>
            <a:endParaRPr b="0" lang="en-US" sz="1600" spc="-1" strike="noStrike">
              <a:solidFill>
                <a:srgbClr val="ffffff"/>
              </a:solidFill>
              <a:latin typeface="Times New Roman"/>
            </a:endParaRPr>
          </a:p>
        </p:txBody>
      </p:sp>
      <p:sp>
        <p:nvSpPr>
          <p:cNvPr id="110" name=""/>
          <p:cNvSpPr/>
          <p:nvPr/>
        </p:nvSpPr>
        <p:spPr>
          <a:xfrm>
            <a:off x="4191120" y="52236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OUR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52280" y="1523880"/>
          <a:ext cx="8991720" cy="5000760"/>
        </p:xfrm>
        <a:graphic>
          <a:graphicData uri="http://schemas.openxmlformats.org/drawingml/2006/table">
            <a:tbl>
              <a:tblPr/>
              <a:tblGrid>
                <a:gridCol w="1935360"/>
                <a:gridCol w="3925800"/>
                <a:gridCol w="1509840"/>
                <a:gridCol w="162072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Month</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Description</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Cred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Deb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r>
              <a:tr h="72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Flowers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105.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4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Fundraiser fund transfe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500.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84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Grocerie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368.0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3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Total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5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473.0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2" name="PlaceHolder 1"/>
          <p:cNvSpPr>
            <a:spLocks noGrp="1"/>
          </p:cNvSpPr>
          <p:nvPr>
            <p:ph type="title"/>
          </p:nvPr>
        </p:nvSpPr>
        <p:spPr>
          <a:xfrm>
            <a:off x="4648320" y="0"/>
            <a:ext cx="2743200" cy="139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edger</a:t>
            </a:r>
            <a:endParaRPr b="1" lang="en-US" sz="4400" spc="-1" strike="noStrike">
              <a:solidFill>
                <a:srgbClr val="ffffff"/>
              </a:solidFill>
              <a:latin typeface="Arial"/>
            </a:endParaRPr>
          </a:p>
        </p:txBody>
      </p:sp>
      <p:sp>
        <p:nvSpPr>
          <p:cNvPr id="113" name=""/>
          <p:cNvSpPr/>
          <p:nvPr/>
        </p:nvSpPr>
        <p:spPr>
          <a:xfrm>
            <a:off x="457200" y="0"/>
            <a:ext cx="3124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hurch Na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et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State Zi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ject Name: Encourage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t No.______________</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u="sng">
                <a:solidFill>
                  <a:srgbClr val="ffffff"/>
                </a:solidFill>
                <a:uFillTx/>
                <a:latin typeface="Arial"/>
              </a:rPr>
              <a:t>__________</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360"/>
            <a:ext cx="67057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Spending the Money</a:t>
            </a:r>
            <a:endParaRPr b="1" lang="en-US" sz="4400" spc="-1" strike="noStrike">
              <a:solidFill>
                <a:srgbClr val="ffffff"/>
              </a:solidFill>
              <a:latin typeface="Arial"/>
            </a:endParaRPr>
          </a:p>
        </p:txBody>
      </p:sp>
      <p:sp>
        <p:nvSpPr>
          <p:cNvPr id="115" name="PlaceHolder 2"/>
          <p:cNvSpPr>
            <a:spLocks noGrp="1"/>
          </p:cNvSpPr>
          <p:nvPr>
            <p:ph/>
          </p:nvPr>
        </p:nvSpPr>
        <p:spPr>
          <a:xfrm>
            <a:off x="533520" y="1523520"/>
            <a:ext cx="8076960" cy="5334120"/>
          </a:xfrm>
          <a:prstGeom prst="rect">
            <a:avLst/>
          </a:prstGeom>
          <a:noFill/>
          <a:ln w="0">
            <a:noFill/>
          </a:ln>
        </p:spPr>
        <p:txBody>
          <a:bodyPr lIns="90000" rIns="90000" tIns="46800" bIns="46800" anchor="t">
            <a:norm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urch treasurer handles money transactions</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eep all receipts </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churches give cash first, others reimburse</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large expenses inform the treasurer before you spend</a:t>
            </a:r>
            <a:endParaRPr b="0" lang="en-US" sz="3600" spc="-1" strike="noStrike">
              <a:solidFill>
                <a:srgbClr val="ffffff"/>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ocal Church Finances</a:t>
            </a:r>
            <a:endParaRPr b="1" lang="en-US" sz="4400" spc="-1" strike="noStrike">
              <a:solidFill>
                <a:srgbClr val="ffffff"/>
              </a:solidFill>
              <a:latin typeface="Arial"/>
            </a:endParaRPr>
          </a:p>
        </p:txBody>
      </p:sp>
      <p:sp>
        <p:nvSpPr>
          <p:cNvPr id="117"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urch budget is based on the size of the church and the benevolence of membe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cal church income comes from the church budge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the is not part of the local church budge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undraising</a:t>
            </a:r>
            <a:endParaRPr b="1" lang="en-US" sz="4400" spc="-1" strike="noStrike">
              <a:solidFill>
                <a:srgbClr val="ffffff"/>
              </a:solidFill>
              <a:latin typeface="Arial"/>
            </a:endParaRPr>
          </a:p>
        </p:txBody>
      </p:sp>
      <p:sp>
        <p:nvSpPr>
          <p:cNvPr id="119" name="PlaceHolder 2"/>
          <p:cNvSpPr>
            <a:spLocks noGrp="1"/>
          </p:cNvSpPr>
          <p:nvPr>
            <p:ph/>
          </p:nvPr>
        </p:nvSpPr>
        <p:spPr>
          <a:xfrm>
            <a:off x="533520" y="1905120"/>
            <a:ext cx="8076960" cy="44193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times your budget is inadequa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ndraising is an option:  dues, selling food or crafts, musical program, car washing, etc.</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ernal Controls</a:t>
            </a:r>
            <a:endParaRPr b="1" lang="en-US" sz="4400" spc="-1" strike="noStrike">
              <a:solidFill>
                <a:srgbClr val="ffffff"/>
              </a:solidFill>
              <a:latin typeface="Arial"/>
            </a:endParaRPr>
          </a:p>
        </p:txBody>
      </p:sp>
      <p:sp>
        <p:nvSpPr>
          <p:cNvPr id="121" name="PlaceHolder 2"/>
          <p:cNvSpPr>
            <a:spLocks noGrp="1"/>
          </p:cNvSpPr>
          <p:nvPr>
            <p:ph/>
          </p:nvPr>
        </p:nvSpPr>
        <p:spPr>
          <a:xfrm>
            <a:off x="304920" y="1295280"/>
            <a:ext cx="8229600" cy="51818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s and balanc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sure Accountabil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w only a few people to collect or spend mone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d accounting erro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 overspend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 misus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e theft difficul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3"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066320" y="2133720"/>
            <a:ext cx="6705720" cy="411480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silver is mine and the gold is mine, declares the LORD Almighty.” Haggai 2:8 NIV</a:t>
            </a:r>
            <a:endParaRPr b="0" lang="en-US" sz="4400" spc="-1" strike="noStrike">
              <a:solidFill>
                <a:srgbClr val="ffffff"/>
              </a:solidFill>
              <a:latin typeface="Arial"/>
            </a:endParaRPr>
          </a:p>
        </p:txBody>
      </p:sp>
      <p:pic>
        <p:nvPicPr>
          <p:cNvPr id="92" name="" descr=""/>
          <p:cNvPicPr/>
          <p:nvPr/>
        </p:nvPicPr>
        <p:blipFill>
          <a:blip r:embed="rId2"/>
          <a:stretch/>
        </p:blipFill>
        <p:spPr>
          <a:xfrm>
            <a:off x="6477120" y="4572000"/>
            <a:ext cx="175248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3520" y="1066680"/>
            <a:ext cx="8001000" cy="5029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
            </a:r>
            <a:r>
              <a:rPr b="0" lang="en-US" sz="3800" spc="-1" strike="noStrike">
                <a:solidFill>
                  <a:srgbClr val="ffffff"/>
                </a:solidFill>
                <a:latin typeface="Arial"/>
              </a:rPr>
              <a:t>Suppose one of you wants to build a tower.  Will he not first sit down and estimate the cost to see if he has enough money to complete it?  For if he lays the foundation and is not able to finish it, everyone who sees it will ridicule him, saying, `This fellow began to build and was not able to finish.’ ” </a:t>
            </a:r>
            <a:r>
              <a:rPr b="0" lang="en-US" sz="3200" spc="-1" strike="noStrike">
                <a:solidFill>
                  <a:srgbClr val="ffffff"/>
                </a:solidFill>
                <a:latin typeface="Arial"/>
              </a:rPr>
              <a:t>Luke 14:28-30 (NIV)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160" y="2057040"/>
            <a:ext cx="8001000" cy="44197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ensure that income will meet need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reflect the mission of your W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nticipate future financial problems and make adjustmen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motivation to reach your goal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help control spending of finances</a:t>
            </a:r>
            <a:endParaRPr b="0" lang="en-US" sz="3600" spc="-1" strike="noStrike">
              <a:solidFill>
                <a:srgbClr val="ffffff"/>
              </a:solidFill>
              <a:latin typeface="Arial"/>
            </a:endParaRPr>
          </a:p>
        </p:txBody>
      </p:sp>
      <p:sp>
        <p:nvSpPr>
          <p:cNvPr id="95" name="PlaceHolder 2"/>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urpose of a Budget</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eps to Establishing the Size of Your  Budget</a:t>
            </a:r>
            <a:endParaRPr b="1" lang="en-US" sz="4000" spc="-1" strike="noStrike">
              <a:solidFill>
                <a:srgbClr val="ffffff"/>
              </a:solidFill>
              <a:latin typeface="Arial"/>
            </a:endParaRPr>
          </a:p>
        </p:txBody>
      </p:sp>
      <p:sp>
        <p:nvSpPr>
          <p:cNvPr id="97" name="PlaceHolder 2"/>
          <p:cNvSpPr>
            <a:spLocks noGrp="1"/>
          </p:cNvSpPr>
          <p:nvPr>
            <p:ph/>
          </p:nvPr>
        </p:nvSpPr>
        <p:spPr>
          <a:xfrm>
            <a:off x="533520" y="1447920"/>
            <a:ext cx="8076960" cy="5410080"/>
          </a:xfrm>
          <a:prstGeom prst="rect">
            <a:avLst/>
          </a:prstGeom>
          <a:noFill/>
          <a:ln w="0">
            <a:noFill/>
          </a:ln>
        </p:spPr>
        <p:txBody>
          <a:bodyPr lIns="90000" rIns="90000" tIns="46800" bIns="46800" anchor="t">
            <a:normAutofit/>
          </a:bodyPr>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your goal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 with the treasurer</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past income and expenditure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expected income and expense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 for the unexpected</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nses must be less than income</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your budget for approval</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year end evaluate your performance</a:t>
            </a:r>
            <a:endParaRPr b="0" lang="en-US" sz="3200" spc="-1" strike="noStrike">
              <a:solidFill>
                <a:srgbClr val="ffffff"/>
              </a:solidFill>
              <a:latin typeface="Arial"/>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9"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228240"/>
            <a:ext cx="670536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encil or Computer</a:t>
            </a:r>
            <a:endParaRPr b="1" lang="en-US" sz="4400" spc="-1" strike="noStrike">
              <a:solidFill>
                <a:srgbClr val="ffffff"/>
              </a:solidFill>
              <a:latin typeface="Arial"/>
            </a:endParaRPr>
          </a:p>
        </p:txBody>
      </p:sp>
      <p:sp>
        <p:nvSpPr>
          <p:cNvPr id="103" name="PlaceHolder 2"/>
          <p:cNvSpPr>
            <a:spLocks noGrp="1"/>
          </p:cNvSpPr>
          <p:nvPr>
            <p:ph/>
          </p:nvPr>
        </p:nvSpPr>
        <p:spPr>
          <a:xfrm>
            <a:off x="533520" y="1828440"/>
            <a:ext cx="8153280" cy="4419720"/>
          </a:xfrm>
          <a:prstGeom prst="rect">
            <a:avLst/>
          </a:prstGeom>
          <a:noFill/>
          <a:ln w="0">
            <a:noFill/>
          </a:ln>
        </p:spPr>
        <p:txBody>
          <a:bodyPr lIns="90000" rIns="90000" tIns="46800" bIns="46800" anchor="t">
            <a:norm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rt budget planning with pencil and paper.</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ideas and estimate costs.</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ful to use computer spreadsheet program e.g. Excel.</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computer not possible use a ledger and journ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eping Record</a:t>
            </a:r>
            <a:endParaRPr b="1" lang="en-US" sz="4400" spc="-1" strike="noStrike">
              <a:solidFill>
                <a:srgbClr val="ffffff"/>
              </a:solidFill>
              <a:latin typeface="Arial"/>
            </a:endParaRPr>
          </a:p>
        </p:txBody>
      </p:sp>
      <p:sp>
        <p:nvSpPr>
          <p:cNvPr id="105" name="PlaceHolder 2"/>
          <p:cNvSpPr>
            <a:spLocks noGrp="1"/>
          </p:cNvSpPr>
          <p:nvPr>
            <p:ph/>
          </p:nvPr>
        </p:nvSpPr>
        <p:spPr>
          <a:xfrm>
            <a:off x="609120" y="1447920"/>
            <a:ext cx="8001000" cy="4876560"/>
          </a:xfrm>
          <a:prstGeom prst="rect">
            <a:avLst/>
          </a:prstGeom>
          <a:noFill/>
          <a:ln w="0">
            <a:noFill/>
          </a:ln>
        </p:spPr>
        <p:txBody>
          <a:bodyPr lIns="90000" rIns="90000" tIns="46800" bIns="46800" anchor="t">
            <a:normAutofit fontScale="95000"/>
          </a:bodyPr>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your ledger – a separate page for each project</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ch page should have name of project, account number (optional), date when started</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p of row list – date, description, deposits (credits), and expenditures (debits)</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your journal for day to day entries</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ce or week or month enter journal entries into your ledg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25:35Z</dcterms:created>
  <dc:creator>Aisha Ricketts</dc:creator>
  <dc:description/>
  <dc:language>en-US</dc:language>
  <cp:lastModifiedBy>Melanie Strahle</cp:lastModifiedBy>
  <dcterms:modified xsi:type="dcterms:W3CDTF">2005-11-08T14:46:11Z</dcterms:modified>
  <cp:revision>26</cp:revision>
  <dc:subject/>
  <dc:title>PowerPoint Presentation</dc:title>
</cp:coreProperties>
</file>